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4E9-D549-488F-88FB-B0FFFC5D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143-4330-423E-B9E8-C91DC3F0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9D5-51EC-4918-AB19-CF21D184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D2C-6995-427E-8D85-EC894A6D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7368-AD09-400D-ABB8-CBF4FD61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BAE9-D63B-4463-BB25-064787DE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528A-A912-4E1C-8548-C94BDC9D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F2B8-2AC0-48CF-BFD0-5CABD51E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F1EF-5C2B-47D7-A4B5-5E168226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B9DE-4D0B-4618-A8C2-61F71921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9145-8FC5-4D3D-ADF8-4C6AF646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5CC-ADFF-4202-B081-C841B93D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FDC4-A875-4B74-AE14-F8B696E5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77C1-7DC9-463B-992C-B49DE59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3D91-C5C0-4178-A202-6044D36A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EFB2-A357-4D65-90FA-6A1B2D75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A715-DCFA-4971-A0F0-B96127C0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D53-8463-4405-9E81-0A8BC502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AE7-6314-4388-A1F6-0D0968A5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302-9CC1-41B0-A2F4-9B5ECD61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4EB-16C6-4241-9711-9F925336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4BE-99A1-4200-9C4A-ECE0F1A7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BDC-1E9E-444C-A104-BA72DAE8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9C2-477D-4EDF-A14B-FEBAC46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1FA9-65BE-4B7C-B4D8-C90ABD5A84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6245-883F-4181-AA2C-2E5B49C9F6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tel for Dog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: Louis Dun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fiction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book is about two kids Bruce and Andi. They just moved from Alberque to Elmwood with there Aunt Alice. Then they find some stray dogs and keep them In a vacant house down the street.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ighly recommend this book to all dog lovers because it is funny, exciting, and a great kids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20:55:48Z</dcterms:created>
  <dc:creator>Garry Sawka</dc:creator>
  <dc:description/>
  <dc:language>en-US</dc:language>
  <cp:lastModifiedBy>Garry Sawka</cp:lastModifiedBy>
  <dcterms:modified xsi:type="dcterms:W3CDTF">2011-10-09T19:21:23Z</dcterms:modified>
  <cp:revision>3</cp:revision>
  <dc:subject/>
  <dc:title> Hotel for Dogs</dc:title>
</cp:coreProperties>
</file>